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006-B68F-4EC4-927C-724CF00A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09D-E34B-42DB-8E80-27AF9D1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6E6-9093-4849-9508-D34CC8FD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484-BF5F-46E0-851D-875155DE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CA0-9DE4-4880-B08A-5CDD873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843-7F18-4D4A-A04C-CF209F84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54E-1E18-402E-B2DA-06222714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121-840C-4FA6-85B3-7A06B317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A17-A386-4282-AA64-448D4C02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362-3D06-49F7-BB80-8D637D4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729-6032-45D3-8DF6-38B00629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470-2BE9-4E83-A09A-CDA6CB4C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F1C3-27EA-4F06-AE8F-E11D5FEB2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6400" y="4724280"/>
            <a:ext cx="380880" cy="76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02200" y="4724280"/>
            <a:ext cx="228600" cy="763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1680" y="4724280"/>
            <a:ext cx="7621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78560" y="4726080"/>
            <a:ext cx="1360800" cy="74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3560" y="4724280"/>
            <a:ext cx="417600" cy="74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02400" y="4724280"/>
            <a:ext cx="7596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88200" y="4724280"/>
            <a:ext cx="685800" cy="76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6400" y="3772080"/>
            <a:ext cx="304560" cy="75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3772080"/>
            <a:ext cx="6094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3560" y="3772080"/>
            <a:ext cx="11430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02400" y="3772080"/>
            <a:ext cx="15228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8200" y="3772080"/>
            <a:ext cx="761760" cy="759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8560" y="3772080"/>
            <a:ext cx="60984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02200" y="3772080"/>
            <a:ext cx="304560" cy="759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8560" y="2781360"/>
            <a:ext cx="3049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2781360"/>
            <a:ext cx="3049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02200" y="2781360"/>
            <a:ext cx="330120" cy="763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2400" y="2781360"/>
            <a:ext cx="43164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88200" y="2781360"/>
            <a:ext cx="685800" cy="76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6400" y="2781360"/>
            <a:ext cx="228600" cy="76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2781360"/>
            <a:ext cx="152424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63560" y="2678040"/>
            <a:ext cx="0" cy="21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11440" y="222876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0360" y="222876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16520" y="222876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67400" y="222876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06640" y="222876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6920" y="222876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82800" y="22287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367920" y="3558600"/>
            <a:ext cx="188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rofond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920" y="26528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iveau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3920" y="365616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iveau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3920" y="459576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iveau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33680" y="53481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76800" y="506268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41640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1168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0240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38820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37856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0220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4320" y="1647720"/>
            <a:ext cx="31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iagramme pollinique en 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1360" y="2743200"/>
            <a:ext cx="0" cy="208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1480" y="2811600"/>
            <a:ext cx="1346040" cy="1963440"/>
          </a:xfrm>
          <a:custGeom>
            <a:avLst/>
            <a:gdLst/>
            <a:ahLst/>
            <a:rect l="l" t="t" r="r" b="b"/>
            <a:pathLst>
              <a:path w="848" h="1237">
                <a:moveTo>
                  <a:pt x="0" y="1237"/>
                </a:moveTo>
                <a:lnTo>
                  <a:pt x="848" y="1237"/>
                </a:lnTo>
                <a:lnTo>
                  <a:pt x="800" y="1088"/>
                </a:lnTo>
                <a:lnTo>
                  <a:pt x="640" y="938"/>
                </a:lnTo>
                <a:lnTo>
                  <a:pt x="474" y="789"/>
                </a:lnTo>
                <a:lnTo>
                  <a:pt x="394" y="624"/>
                </a:lnTo>
                <a:lnTo>
                  <a:pt x="336" y="469"/>
                </a:lnTo>
                <a:lnTo>
                  <a:pt x="288" y="325"/>
                </a:lnTo>
                <a:lnTo>
                  <a:pt x="229" y="1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21400" y="2819520"/>
            <a:ext cx="779400" cy="1947600"/>
          </a:xfrm>
          <a:custGeom>
            <a:avLst/>
            <a:gdLst/>
            <a:ahLst/>
            <a:rect l="l" t="t" r="r" b="b"/>
            <a:pathLst>
              <a:path w="491" h="1227">
                <a:moveTo>
                  <a:pt x="0" y="1227"/>
                </a:moveTo>
                <a:lnTo>
                  <a:pt x="422" y="1227"/>
                </a:lnTo>
                <a:lnTo>
                  <a:pt x="427" y="1083"/>
                </a:lnTo>
                <a:lnTo>
                  <a:pt x="464" y="928"/>
                </a:lnTo>
                <a:lnTo>
                  <a:pt x="486" y="779"/>
                </a:lnTo>
                <a:lnTo>
                  <a:pt x="491" y="624"/>
                </a:lnTo>
                <a:lnTo>
                  <a:pt x="464" y="464"/>
                </a:lnTo>
                <a:lnTo>
                  <a:pt x="422" y="315"/>
                </a:lnTo>
                <a:lnTo>
                  <a:pt x="411" y="160"/>
                </a:lnTo>
                <a:lnTo>
                  <a:pt x="416" y="0"/>
                </a:lnTo>
                <a:lnTo>
                  <a:pt x="0" y="0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0400" y="2819520"/>
            <a:ext cx="871560" cy="1947600"/>
          </a:xfrm>
          <a:custGeom>
            <a:avLst/>
            <a:gdLst/>
            <a:ahLst/>
            <a:rect l="l" t="t" r="r" b="b"/>
            <a:pathLst>
              <a:path w="549" h="1227">
                <a:moveTo>
                  <a:pt x="0" y="1227"/>
                </a:moveTo>
                <a:lnTo>
                  <a:pt x="58" y="1227"/>
                </a:lnTo>
                <a:lnTo>
                  <a:pt x="16" y="1088"/>
                </a:lnTo>
                <a:lnTo>
                  <a:pt x="16" y="928"/>
                </a:lnTo>
                <a:lnTo>
                  <a:pt x="37" y="779"/>
                </a:lnTo>
                <a:lnTo>
                  <a:pt x="90" y="629"/>
                </a:lnTo>
                <a:lnTo>
                  <a:pt x="309" y="464"/>
                </a:lnTo>
                <a:lnTo>
                  <a:pt x="506" y="315"/>
                </a:lnTo>
                <a:lnTo>
                  <a:pt x="549" y="160"/>
                </a:lnTo>
                <a:lnTo>
                  <a:pt x="304" y="0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9960" y="2811600"/>
            <a:ext cx="746280" cy="1963440"/>
          </a:xfrm>
          <a:custGeom>
            <a:avLst/>
            <a:gdLst/>
            <a:ahLst/>
            <a:rect l="l" t="t" r="r" b="b"/>
            <a:pathLst>
              <a:path w="470" h="1237">
                <a:moveTo>
                  <a:pt x="0" y="1237"/>
                </a:moveTo>
                <a:lnTo>
                  <a:pt x="470" y="1237"/>
                </a:lnTo>
                <a:lnTo>
                  <a:pt x="336" y="1088"/>
                </a:lnTo>
                <a:lnTo>
                  <a:pt x="160" y="933"/>
                </a:lnTo>
                <a:lnTo>
                  <a:pt x="123" y="784"/>
                </a:lnTo>
                <a:lnTo>
                  <a:pt x="374" y="629"/>
                </a:lnTo>
                <a:lnTo>
                  <a:pt x="416" y="474"/>
                </a:lnTo>
                <a:lnTo>
                  <a:pt x="352" y="314"/>
                </a:lnTo>
                <a:lnTo>
                  <a:pt x="267" y="16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1600" y="2811600"/>
            <a:ext cx="736560" cy="1955520"/>
          </a:xfrm>
          <a:custGeom>
            <a:avLst/>
            <a:gdLst/>
            <a:ahLst/>
            <a:rect l="l" t="t" r="r" b="b"/>
            <a:pathLst>
              <a:path w="464" h="1232">
                <a:moveTo>
                  <a:pt x="0" y="1232"/>
                </a:moveTo>
                <a:lnTo>
                  <a:pt x="128" y="1232"/>
                </a:lnTo>
                <a:lnTo>
                  <a:pt x="320" y="1088"/>
                </a:lnTo>
                <a:lnTo>
                  <a:pt x="453" y="944"/>
                </a:lnTo>
                <a:lnTo>
                  <a:pt x="464" y="784"/>
                </a:lnTo>
                <a:lnTo>
                  <a:pt x="224" y="629"/>
                </a:lnTo>
                <a:lnTo>
                  <a:pt x="149" y="474"/>
                </a:lnTo>
                <a:lnTo>
                  <a:pt x="170" y="314"/>
                </a:lnTo>
                <a:lnTo>
                  <a:pt x="122" y="165"/>
                </a:lnTo>
                <a:lnTo>
                  <a:pt x="181" y="0"/>
                </a:lnTo>
                <a:lnTo>
                  <a:pt x="0" y="0"/>
                </a:ln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25800" y="2819520"/>
            <a:ext cx="558720" cy="1947600"/>
          </a:xfrm>
          <a:custGeom>
            <a:avLst/>
            <a:gdLst/>
            <a:ahLst/>
            <a:rect l="l" t="t" r="r" b="b"/>
            <a:pathLst>
              <a:path w="352" h="1227">
                <a:moveTo>
                  <a:pt x="0" y="1227"/>
                </a:moveTo>
                <a:lnTo>
                  <a:pt x="229" y="1227"/>
                </a:lnTo>
                <a:lnTo>
                  <a:pt x="282" y="1083"/>
                </a:lnTo>
                <a:lnTo>
                  <a:pt x="352" y="933"/>
                </a:lnTo>
                <a:lnTo>
                  <a:pt x="346" y="789"/>
                </a:lnTo>
                <a:lnTo>
                  <a:pt x="218" y="629"/>
                </a:lnTo>
                <a:lnTo>
                  <a:pt x="176" y="464"/>
                </a:lnTo>
                <a:lnTo>
                  <a:pt x="149" y="309"/>
                </a:lnTo>
                <a:lnTo>
                  <a:pt x="149" y="160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8000" y="2822400"/>
            <a:ext cx="1419120" cy="1941840"/>
          </a:xfrm>
          <a:custGeom>
            <a:avLst/>
            <a:gdLst/>
            <a:ahLst/>
            <a:rect l="l" t="t" r="r" b="b"/>
            <a:pathLst>
              <a:path w="894" h="1223">
                <a:moveTo>
                  <a:pt x="0" y="1223"/>
                </a:moveTo>
                <a:lnTo>
                  <a:pt x="251" y="1223"/>
                </a:lnTo>
                <a:lnTo>
                  <a:pt x="267" y="1114"/>
                </a:lnTo>
                <a:lnTo>
                  <a:pt x="408" y="941"/>
                </a:lnTo>
                <a:lnTo>
                  <a:pt x="604" y="792"/>
                </a:lnTo>
                <a:lnTo>
                  <a:pt x="683" y="659"/>
                </a:lnTo>
                <a:lnTo>
                  <a:pt x="620" y="494"/>
                </a:lnTo>
                <a:lnTo>
                  <a:pt x="573" y="337"/>
                </a:lnTo>
                <a:lnTo>
                  <a:pt x="643" y="188"/>
                </a:lnTo>
                <a:lnTo>
                  <a:pt x="894" y="0"/>
                </a:lnTo>
                <a:lnTo>
                  <a:pt x="0" y="0"/>
                </a:lnTo>
                <a:lnTo>
                  <a:pt x="0" y="831"/>
                </a:lnTo>
                <a:lnTo>
                  <a:pt x="0" y="1223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8840" y="2801880"/>
            <a:ext cx="534960" cy="1954440"/>
          </a:xfrm>
          <a:custGeom>
            <a:avLst/>
            <a:gdLst/>
            <a:ahLst/>
            <a:rect l="l" t="t" r="r" b="b"/>
            <a:pathLst>
              <a:path w="337" h="1231">
                <a:moveTo>
                  <a:pt x="0" y="1231"/>
                </a:moveTo>
                <a:lnTo>
                  <a:pt x="196" y="1231"/>
                </a:lnTo>
                <a:lnTo>
                  <a:pt x="203" y="1145"/>
                </a:lnTo>
                <a:lnTo>
                  <a:pt x="219" y="925"/>
                </a:lnTo>
                <a:lnTo>
                  <a:pt x="251" y="753"/>
                </a:lnTo>
                <a:lnTo>
                  <a:pt x="274" y="572"/>
                </a:lnTo>
                <a:lnTo>
                  <a:pt x="305" y="400"/>
                </a:lnTo>
                <a:lnTo>
                  <a:pt x="321" y="243"/>
                </a:lnTo>
                <a:lnTo>
                  <a:pt x="337" y="118"/>
                </a:lnTo>
                <a:lnTo>
                  <a:pt x="329" y="0"/>
                </a:lnTo>
                <a:lnTo>
                  <a:pt x="0" y="0"/>
                </a:lnTo>
                <a:lnTo>
                  <a:pt x="0" y="776"/>
                </a:lnTo>
                <a:lnTo>
                  <a:pt x="0" y="123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80" y="2678040"/>
            <a:ext cx="1800" cy="21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4829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47680" y="24829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33840" y="24829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75160" y="24829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9960" y="24829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4800" y="248292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20680" y="2482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734040" y="3506040"/>
            <a:ext cx="18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rofond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000" y="5348160"/>
            <a:ext cx="384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4120" y="506268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7240" y="2679480"/>
            <a:ext cx="144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13040" y="2692080"/>
            <a:ext cx="144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38520" y="2692080"/>
            <a:ext cx="144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1840" y="2692080"/>
            <a:ext cx="144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19600" y="2679480"/>
            <a:ext cx="180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622920" y="2692080"/>
            <a:ext cx="180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920" y="2814480"/>
            <a:ext cx="7545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920" y="3809880"/>
            <a:ext cx="753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8520" y="4762440"/>
            <a:ext cx="756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8520" y="4051440"/>
            <a:ext cx="7532280" cy="482040"/>
            <a:chOff x="398520" y="4051440"/>
            <a:chExt cx="7532280" cy="482040"/>
          </a:xfrm>
        </p:grpSpPr>
        <p:sp>
          <p:nvSpPr>
            <p:cNvPr id="113" name=""/>
            <p:cNvSpPr/>
            <p:nvPr/>
          </p:nvSpPr>
          <p:spPr>
            <a:xfrm>
              <a:off x="398520" y="453348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520" y="429228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8520" y="405144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8520" y="3073320"/>
            <a:ext cx="7532280" cy="482400"/>
            <a:chOff x="398520" y="3073320"/>
            <a:chExt cx="7532280" cy="482400"/>
          </a:xfrm>
        </p:grpSpPr>
        <p:sp>
          <p:nvSpPr>
            <p:cNvPr id="117" name=""/>
            <p:cNvSpPr/>
            <p:nvPr/>
          </p:nvSpPr>
          <p:spPr>
            <a:xfrm>
              <a:off x="398520" y="355572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8520" y="331452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520" y="307332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18208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992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740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1524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9308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91440" y="280188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01160" y="4757760"/>
            <a:ext cx="6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00360" y="473076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   N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35200" y="25462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0          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85520" y="15336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iagramme polli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6388200" y="1568520"/>
            <a:ext cx="177840" cy="1587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41400 h 1587600"/>
              <a:gd name="textAreaBottom" fmla="*/ 1546200 h 15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2781720" y="-62640"/>
            <a:ext cx="189000" cy="4851360"/>
          </a:xfrm>
          <a:custGeom>
            <a:avLst/>
            <a:gdLst>
              <a:gd name="textAreaLeft" fmla="*/ 120960 w 189000"/>
              <a:gd name="textAreaRight" fmla="*/ 189360 w 189000"/>
              <a:gd name="textAreaTop" fmla="*/ 126360 h 4851360"/>
              <a:gd name="textAreaBottom" fmla="*/ 4725000 h 485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59720" y="203832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axons arboré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61080" y="20383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axons  non arboré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6:02:08Z</dcterms:created>
  <dc:creator>Wastiaux</dc:creator>
  <dc:description/>
  <dc:language>en-US</dc:language>
  <cp:lastModifiedBy>Wastiaux</cp:lastModifiedBy>
  <dcterms:modified xsi:type="dcterms:W3CDTF">2007-11-30T14:21:48Z</dcterms:modified>
  <cp:revision>16</cp:revision>
  <dc:subject/>
  <dc:title>Aucun titre de diapositive</dc:title>
</cp:coreProperties>
</file>